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FC7-0F6D-4637-9906-887ABD34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C41-FD9C-4794-B8AB-FD2A1885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487-ACA6-4193-ACE3-372B5CA2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B4C-0D6E-43BF-B4A6-7DCE8EC1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247-3747-41CE-988A-3B5FF76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4ED-A782-4E29-82F0-0308389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C04-0E75-4808-9BB6-D2284AD5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40F-AA26-4E7F-86EE-49E1A58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E53-9E3D-4AFB-BFCE-976ACB4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7D4-633A-4AA3-AD91-7326FA7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405-3C5E-43E0-B726-B14E4B7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A23-5DB1-42E4-822F-6F4E22D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FFC6-3EC6-492A-9527-FB4BDDBA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685800"/>
            <a:ext cx="19051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676520"/>
            <a:ext cx="4114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41148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371600"/>
            <a:ext cx="4114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858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76920" y="1447560"/>
            <a:ext cx="15238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876920" y="198072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76920" y="2590560"/>
            <a:ext cx="1523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76920" y="320004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76920" y="38858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876920" y="44956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76920" y="510516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627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19047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120" y="76212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00800" y="1295280"/>
            <a:ext cx="1752480" cy="4574160"/>
            <a:chOff x="6400800" y="1295280"/>
            <a:chExt cx="1752480" cy="4574160"/>
          </a:xfrm>
        </p:grpSpPr>
        <p:sp>
          <p:nvSpPr>
            <p:cNvPr id="57" name=""/>
            <p:cNvSpPr/>
            <p:nvPr/>
          </p:nvSpPr>
          <p:spPr>
            <a:xfrm>
              <a:off x="6400800" y="1295280"/>
              <a:ext cx="1752480" cy="45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560" y="12952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480" y="1295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9600" y="12952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800" y="1599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77480" y="15998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9600" y="1599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0800" y="19047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480" y="19047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9600" y="19047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22096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480" y="2209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9600" y="22096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14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480" y="25142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9600" y="25142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819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77480" y="28191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9600" y="28191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3124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480" y="31240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9600" y="31240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428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480" y="34286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9600" y="34286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37335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480" y="37335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9600" y="37335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4038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7120" y="40384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9240" y="40384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4343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43430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9240" y="43430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46479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4647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9240" y="46479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952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49528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9240" y="49528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5257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7120" y="52574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9240" y="5257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08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55623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9240" y="55623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5867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124080" y="3276720"/>
            <a:ext cx="1752840" cy="2440440"/>
            <a:chOff x="3124080" y="3276720"/>
            <a:chExt cx="1752840" cy="2440440"/>
          </a:xfrm>
        </p:grpSpPr>
        <p:sp>
          <p:nvSpPr>
            <p:cNvPr id="105" name=""/>
            <p:cNvSpPr/>
            <p:nvPr/>
          </p:nvSpPr>
          <p:spPr>
            <a:xfrm>
              <a:off x="3124080" y="3276720"/>
              <a:ext cx="1752840" cy="243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32767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4120" y="3276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5520" y="32767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35812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4120" y="3581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5520" y="3581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38862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4120" y="3886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5520" y="388620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1911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4120" y="4191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5520" y="4191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080" y="44956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4120" y="449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5520" y="4495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800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4120" y="480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5160" y="480060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1055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4120" y="5105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5160" y="51055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54100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4120" y="5410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5160" y="5410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124440" y="281952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odd/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9480" y="5867280"/>
            <a:ext cx="272268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oddp (val v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log (val v) 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2193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219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920" y="1219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4600" y="12193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52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920" y="1523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4240" y="15238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92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4240" y="18288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920" y="762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mod5 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840" y="2438280"/>
            <a:ext cx="257796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= 0 (mod (val v)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* 2 (val v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24:50Z</dcterms:created>
  <dc:creator>Ian Eslick</dc:creator>
  <dc:description/>
  <dc:language>en-US</dc:language>
  <cp:lastModifiedBy>Ian Eslick</cp:lastModifiedBy>
  <dcterms:modified xsi:type="dcterms:W3CDTF">2007-04-25T14:06:52Z</dcterms:modified>
  <cp:revision>4</cp:revision>
  <dc:subject/>
  <dc:title>PowerPoint Presentation</dc:title>
</cp:coreProperties>
</file>